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arrow.wav" ContentType="audio/x-wav"/>
  <Override PartName="/ppt/media/image13.jpeg" ContentType="image/jpeg"/>
  <Override PartName="/ppt/media/coin.wav" ContentType="audio/x-wav"/>
  <Override PartName="/ppt/media/applause.wav" ContentType="audio/x-wav"/>
  <Override PartName="/ppt/media/bomb.wav" ContentType="audio/x-wav"/>
  <Override PartName="/ppt/media/image14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chimes.wav" ContentType="audio/x-wav"/>
  <Override PartName="/ppt/media/wind.wav" ContentType="audio/x-wav"/>
  <Override PartName="/ppt/media/image12.jpeg" ContentType="image/jpeg"/>
  <Override PartName="/ppt/media/image6.png" ContentType="image/png"/>
  <Override PartName="/ppt/media/image7.jpeg" ContentType="image/jpeg"/>
  <Override PartName="/ppt/media/click.wav" ContentType="audio/x-wav"/>
  <Override PartName="/ppt/media/image1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FEE-BF97-42FA-813B-7E3FB593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78DA-A110-4C7E-9994-3E7F7885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FD21D-E15E-41F8-9FC2-5D5B7E0B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ABEA9-80FD-4867-8D39-C6A20191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5A6BE-AD64-4049-A961-F66862D7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DDA82-E578-4289-A679-5DD0FF5E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200FF-CCD7-4A4B-8113-4F5BAED6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4A9F6-FE1A-4D1C-BE5A-0F431D73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7DB59-A94B-4C7E-9B0F-EAB2756E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8A1B2-C7F4-43A9-A8CB-E7AFCC8A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B66C5-D2CE-4CFE-9024-8DF82533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B26C3-A601-4C26-A3BD-5CADA075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89E-669F-4C1C-B034-BAD8B711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A6D9F-4359-4A42-A6E5-E29F3C61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C1A5E-ECC0-406D-BAD5-FEFD93A7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9BEDF-9EB7-42BB-BA7B-2C931FFB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A0111-877F-47C5-9B9B-8FB1984B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ABC04-CC12-4759-9F98-33F9D376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0D98C-8FFE-4F2A-A918-39945235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54EDD-3C9C-4CDC-934B-4EF2FA81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D4B7E-CF86-406E-85D3-60B7DC14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11B67-17CE-40CF-A2DF-8E16B4FD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F0F1A-366A-428A-A103-54BCC5EB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AE8-72BA-49C7-BA05-02797F2C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B04A2-7E18-4EAA-9560-E96DF474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C7A97-29C3-41ED-9CCC-90827399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8352D-0D07-4D08-85E7-A1B1D1F0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CE475-CF8D-49CE-BA6C-0FEEA49B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CB2AB-D45C-4813-93C2-75FD19FB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9EBCA-E756-433E-A47A-C5DF4801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8A641-6BCA-497C-A69A-0D07C2A4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2E95A-024E-4517-987B-B9C05A7D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7643E-7D02-434F-AFBE-F46AA27B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D0429-61B6-4B77-96B9-BF44A85C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DE72-1F1F-4192-AB0F-28AACBF6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5BCC9-61BC-4D6C-9489-584A074B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E8F3D-5D86-4E81-A609-86E95EBD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71B1B-1F94-4D88-BDE4-49B6C010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B0409-DAC8-450F-9347-6A3C00F9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29F4E-4AF4-4811-9F35-0F19BC97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7A370-3CE1-40A2-B923-AD6DE3BB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D4DE2-55CD-4357-9F23-D2808C4E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FD44D-90FF-4B67-99ED-F354FBA5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1C597-7C71-4E4A-BBA6-954DA466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F67DD-F009-419F-991D-B9C23607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B885-0BDA-403E-B160-92566594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A02B1-296F-4E93-BE05-42929484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F74D6-4E80-4932-9A7C-0C106240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F27F0-0E0F-44B8-AEEC-69E7D0F8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212E1-B857-4EAB-9389-4328A5AE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0E42C-2018-4245-AB59-32E26DA8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F550C0-8546-4F52-A624-842DC566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F2D7F8-93F1-413D-8A6E-37BD8DCB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648692-F97A-4436-815A-9F43595D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786EF1-7778-4699-AB47-61D0D7EB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91764E-1866-4DFF-A1A9-02777A69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CA2E-3400-4DE5-9756-AC9DEED9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A8C953-47F1-41EF-8727-53DCC30D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4F3BBC-9B9C-46C7-BF54-2CF8B8C3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70A36A-81AF-4377-8282-DE9A0CA1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5AAFD1-C8F1-4669-AEDB-95801820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B6FD9B-E5D9-4E6A-814E-16FAA9A4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928B29-EF4D-45CB-86DC-E51F416C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56E5BE-A5EF-46EB-9106-BCEB882E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92336-001A-487F-A961-EB47F1B0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39DFA-10E6-4F36-91FF-B083F0D5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EB635-1CA9-4A6C-929A-606824EF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57E1-8252-40F5-BE43-4109DA37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01A8A-75C8-41E5-8EBE-4017051C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65E99-AB01-46E1-94BA-0957A085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0352F-D3F1-4FBD-A7B9-C2ABB534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FE703-4998-4DDD-841E-96D4AB03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E4DC7-45E7-4259-B06D-5082AFA0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13B2E-122A-49DA-9F80-F7F710C7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0BE2C8-E5F7-4E6B-BF58-DA653235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4631D-1F89-45F2-ADED-11312AFE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924B5-99FE-4FCA-92CF-D5964F9A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FB49-5B95-49DD-9129-3EFA3A84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7A1C-2F73-4EFC-AC66-83B8444F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4494-2027-4FDE-AE93-619AD927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964-F9DA-4D3A-A0AE-9012DAB5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9706-6E99-486A-A6F7-D0D7293F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B33B-FC4A-4385-92C0-7D2F9112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9813-B9A4-41CB-BEF1-22A4ECAC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BB9C-1CCD-4CEC-BDA9-866A0BEB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767A-A941-4C5A-A574-7DF78A0D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D3B8-3782-4BFE-AD14-4A36C6C1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04DEE-5969-4596-98D6-47330B5A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31351-24AF-4E23-AA5A-39110428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AA64D-872A-40AD-A7DC-D1C6C127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21C61-B4D1-4578-BE2B-909A9805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2B4-1703-414A-9A9E-1D08E9D2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87F73-6B77-4A07-BAD2-1E22B752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4409-AFD6-4EC5-871F-6661267C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84D76-906B-4C95-89D7-5339C918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2B920-1880-45D3-BBEF-28FD667D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041C-4DE1-4878-B0D3-70E552BD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3816-99F2-422B-9DE5-F128CC70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4CFB8-6C5E-460D-937E-F6079466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07D6A-4918-44D9-A64E-5CB4740D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2AA77-B89D-4927-BDF1-D53CCA8D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19ECB-14C9-49AD-87CC-E1FE40F2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08D-E6E2-4EBB-9A36-6D2F2A29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781EB-312D-48E4-B4C9-9F6F9354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BC3C9-5B8E-4EC2-814E-CE3C6204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E79F0-161A-4356-9161-5AA6A8FF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A149B-2C28-4C0D-9315-6F610F51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9FEFB-7A38-4CFB-8000-542A2186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86A98-8BB9-4517-A3BF-7BC6799B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438E3-228A-44FE-87C4-EF9D75FB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64A2A-473E-4925-BAA6-79040F72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321C3-611C-48B1-ABC8-2CB7C8D4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D8977-D492-47A1-8955-5788D2C6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045-702C-4469-8A90-462843D5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CFAC9-DDB7-4120-A470-BF16C0B9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675FF-1E89-4FE9-8186-0305F1C3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1E2B4-BB87-42A9-8504-A47002B2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4B0C5-8774-4AC3-8D03-06CF0B02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F7107-1129-4307-B51C-20F495FB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FBB97-F309-41CE-BD5F-C9E7A973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E7110-EAF4-4EFB-8EEC-0B0A4F1E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6604B-A97C-4F5D-9FEA-F6489199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707F5-92BE-4B27-A4F3-FB18D44E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EFB01-DB2E-4AE5-92D1-A79450ED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F4B-A8A1-4389-A920-F2920FA9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E8E8-EF11-40D9-9AC1-7421A53F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06DC0-8318-400E-BBC5-3375EF29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2DEA9-D80C-4A1F-8143-614EBCB2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8CD11-0192-4060-8184-77E52E68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39CA6-18E0-4C8B-875F-8A9F43C0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68C99-E443-4E8C-8F4A-8307D7BB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4605E-493A-4B1C-9725-669B15BE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71C7F-1067-4D36-9134-5370CBDA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9AF6E-A191-4F39-9B3A-B0E3F2CF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367CE-0BD2-405A-A358-E4D31F04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72F-D705-482A-90E8-35031696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1CCBF-669C-4DF4-BC92-25A5BD98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CED4F-FDB7-4F32-B770-DD0A4021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73C08-B260-4D74-98F4-016ACC5F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66454-B501-4E94-A49C-3018F65A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7EC33-F4A9-4F9F-B8D7-8FB1649C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20727-4C6B-4B25-A7FD-70290930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13F12-B4FD-466B-B152-5601F008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47FAB-43DB-4C42-8A93-E989BDA0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2434A-9D45-49B0-8DDA-E8EA95BE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917CE-C119-46AA-8221-1859369C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67A-595C-4362-A2A2-D4DA75D1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30C38-35A8-4198-81B1-C4DC88D5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F4E2A-70A4-40C2-A5E3-A2EF3969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50FF4-5937-4F76-9411-BD2964E6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06062-9E1C-4C6F-B2D7-14D704D5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F53B3-33C6-4431-92DE-18A786CD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FE1C4F-86CC-4337-9D6E-8963ECBE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5335F9-653E-4208-9517-7348319E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95E1B5-920A-4B8A-8BAF-A75389CC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C37735-CC82-4C60-8A7C-6C58147A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7F8C36-BAB6-4626-9234-80637672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F8A-7648-47C8-811A-24EBD422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3092CF-B393-4978-B01C-CDA29639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3C3ABD-1500-4DAE-BC42-CDA4E233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0C3B91-4466-4447-A2BF-666635EF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456B0F-A2E8-40FD-9486-1FBC7C61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787298-FD42-4FFD-9835-F0BF6A9A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E74AF5-F29D-431A-846A-E3864CD0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3C67F4-4BC8-4450-9C26-E3C9CC77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CC117-B5B7-4BA1-96F0-28518C47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5CA15-6B9A-4C02-AE42-52550EA6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9A781-7916-467A-9044-C140A675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92E6-4DFE-415F-830E-27EDADED7A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70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83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86F4-B6BE-4F89-871D-53434F3DD84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4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38AD-D51C-4F4C-96FB-8DEDC60DD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9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B7CA-C1DD-4682-849C-4733431E1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C49E-ECDA-4458-AE40-564BF782CE8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0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8E7D-1CC0-403B-A584-D998E4994EC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2E78-54A4-4807-954C-4B9D229ECF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6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1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B60C-7C68-47BC-A48F-E02E95E9F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6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7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8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0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1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608E-F630-4B4B-8D1C-E29FFE972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7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FBB5-2149-4F99-9AA3-E8B1462A10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C3A4-F264-485D-B8B8-D261E4A607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7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F2B9-B7F3-456D-9851-F6F6F1F52D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3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3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3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2E01-FA44-4DA8-B3DD-4908151647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90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03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951E-E667-41DB-BFE0-35CE8E5B0D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5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omic Sans MS"/>
              </a:rPr>
              <a:t>Tyler Hal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w Y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mpire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">
    <p:blinds dir="horz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pital is Alb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0" y="3056040"/>
            <a:ext cx="5257800" cy="38019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vert"/>
    <p:sndAc>
      <p:stSnd>
        <p:snd r:embed="rId2" name="arrow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te bird is bluebi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495288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2"/>
          <a:stretch/>
        </p:blipFill>
        <p:spPr>
          <a:xfrm>
            <a:off x="0" y="2065320"/>
            <a:ext cx="5486400" cy="47926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vert"/>
    <p:sndAc>
      <p:stSnd>
        <p:snd r:embed="rId3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te flower is the r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5334120" y="4005360"/>
            <a:ext cx="3809880" cy="285264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797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split dir="in" orient="vert"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pulation is 19,011,37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260028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nickname of New York is The Empi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5776920" y="2362320"/>
            <a:ext cx="3367080" cy="44956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ea is 54,475 square miles (2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arg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zoom dir="out"/>
    <p:sndAc>
      <p:stSnd>
        <p:snd r:embed="rId1" name="coi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3:49:08Z</dcterms:created>
  <dc:creator>Student</dc:creator>
  <dc:description/>
  <dc:language>en-US</dc:language>
  <cp:lastModifiedBy>Student</cp:lastModifiedBy>
  <dcterms:modified xsi:type="dcterms:W3CDTF">2012-05-14T14:35:53Z</dcterms:modified>
  <cp:revision>3</cp:revision>
  <dc:subject/>
  <dc:title>Tyler Hall</dc:title>
</cp:coreProperties>
</file>